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4DA-B9F3-4C75-98D3-1A129156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C12-6087-45E6-97D0-356976AF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5C5-7A8F-47F1-B79C-53EF3C93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059-4C0E-4EB7-AA22-6F6899C9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ED3-9537-4611-A554-1799EA3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AB4-004A-499C-915C-752C731E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EF7-A399-4F1E-A81F-6C53ADAC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558-2AE9-4271-81A6-8181872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CFE-81C4-487C-8346-6FDE66E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1FF-1F8C-4767-8528-1FB2345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B6C-7AD5-4CE1-A44B-5B583F72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E87-313D-46B2-A570-284024B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7DB2-61CA-4555-97B3-384D0994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&amp;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ste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different locations in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ajor types of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biologyeoc.wikispaces.com/Anaerobic+Respi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7120" y="1981080"/>
            <a:ext cx="55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Redox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-transfer reaction in which potential E of electrons is transferred from one substance to another, releasing free energy at each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process of losing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process of gaining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x Reac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cikguwong.blogspot.com/2011/06/chemistry-form-5-chapter-3-redox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som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reaction to create a molecule whose shape is more conducive to anoth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campus.northpark.edu/biology/cell/glycolysis2.gif"/>
          <p:cNvPicPr/>
          <p:nvPr/>
        </p:nvPicPr>
        <p:blipFill>
          <a:blip r:embed="rId1"/>
          <a:stretch/>
        </p:blipFill>
        <p:spPr>
          <a:xfrm>
            <a:off x="871560" y="3664080"/>
            <a:ext cx="73580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Decarboxyl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en.wikipedia.org/wiki/File:Pyruvate_decarboxylation.p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is removed from a molecule to form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352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osphate group, with its high energy bond, is attached to a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campus.northpark.edu/biology/cell/glycolysis1.gif"/>
          <p:cNvPicPr/>
          <p:nvPr/>
        </p:nvPicPr>
        <p:blipFill>
          <a:blip r:embed="rId1"/>
          <a:stretch/>
        </p:blipFill>
        <p:spPr>
          <a:xfrm>
            <a:off x="1143000" y="3624120"/>
            <a:ext cx="71438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P Phosphory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can be produc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rate-level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rect formation through enzyme-catalyzed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idative phosphory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direct formation through chemiosmotic grad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br>
              <a:rPr sz="41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bio.miami.edu/~cmallery/150/makeatp/SLP.jp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06560" y="1981080"/>
            <a:ext cx="353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parknotes.com/biology/cellrespiration/oxidativephosphorylation/section3.r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76360" y="1981080"/>
            <a:ext cx="438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urvive, living organisms need to be able to take in energy from their environment and convert it to usable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autotro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form light E into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troph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on other organisms (including autotrophs) to obtain chemical potentia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ganisms use glucose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s their primary sourc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is broken down in a series of reactions, rearranging the atoms into molecules with greate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reaction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g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acsbiology.info/Respiration.asp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5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released from cellular respiration is transferred to molecules of adenosine triphosphate (A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stored in ATP can be used directly by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ATP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library.thinkquest.org/C004535/cellular_currency:_atp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61960" y="1981080"/>
            <a:ext cx="621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science-autism.org/Mitochondrial%20disease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ctions of cellular respiration occur in the cytoplasm and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089080"/>
            <a:ext cx="3809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Reactions of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1:56:34Z</dcterms:created>
  <dc:creator>rubina khan</dc:creator>
  <dc:description/>
  <dc:language>en-US</dc:language>
  <cp:lastModifiedBy>rubina khan</cp:lastModifiedBy>
  <dcterms:modified xsi:type="dcterms:W3CDTF">2012-03-22T16:26:36Z</dcterms:modified>
  <cp:revision>32</cp:revision>
  <dc:subject/>
  <dc:title>Cellular Respiration</dc:title>
</cp:coreProperties>
</file>